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7.xml" ContentType="application/vnd.openxmlformats-officedocument.presentationml.comments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" initials="a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5-03-28T18:10:37.900000000" idx="1">
    <p:pos x="5616" y="864"/>
    <p:text/>
  </p:cm>
</p:cmLst>
</file>

<file path=ppt/comments/comment18.xml><?xml version="1.0" encoding="utf-8"?>
<p:cmLst xmlns:p="http://schemas.openxmlformats.org/presentationml/2006/main">
  <p:cm authorId="0" dt="2015-03-28T18:10:37.900000000" idx="2">
    <p:pos x="5616" y="864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A111-93BD-4EC2-936C-F4F210A023A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1625-F687-4ACB-9AA5-6F96824E249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69EE-554E-4834-B2E3-DA75B0D7CF8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C6954-29A0-4299-8F74-E09F8D5060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5FF76-9D77-444F-A756-722B8EA3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41C7D-0519-48DF-AE97-7B07B990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B5AF2-B54D-409F-B318-60D0468BC2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1BEE1-BA9A-41B8-A03A-CAAA6E30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D0477-4C73-4343-B0C1-4843D054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15F3E-9B9E-4935-9D9B-350C8466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BF05D-9E63-4279-9F04-DE1CAFE6A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34426-8978-474B-8666-220FD40D6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3DE65-E460-4B16-A612-F181E959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B4373-278E-440F-B2FD-CE0F91D2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F50C9-B2F1-4934-8EF1-CAF00746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1A51-72A5-4581-B458-DA153E23DD4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8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已明确为弥漫性腹膜炎，目前采取非手术治疗，予以禁食、胃肠减压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目前观察和护理的重点内容有哪些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受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呕吐、禁食、腹膜广泛渗出、发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炎或合并其他部位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性休克、腹腔脓肿、粘连性肠梗阻、切口感染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抗感染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症护理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需手术治疗者，应做好术前常规准备工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引流的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膈下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盆腔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化脓性细菌（包括需氧和厌氧菌或两者混合）所引起的腹膜腔急性炎症称急性化脓性腹膜炎。按发病机制可为原发性和继发性两种，以后者多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腹痛、恶心呕吐和全身感染中毒症，有明显腹膜刺激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病因、促使腹腔炎症消退和局限，引流腹腔渗液，改善机体情况。其具体措施为：取半坐卧位（休克者除外）、禁食、补液、胃肠减压、应用抗生素及手术剖腹探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观察生命体征和腹部情况，未明确诊断禁用止痛剂，半坐卧位、禁食、补液、胃肠减压、应用抗生素，作好术前护理准备。术后护理：观察生命体征、腹部情况、伤口及引流，鼓励下床活动，防止并发症发生；胃肠功能恢复后可解除胃肠减压并进食，适当应用止痛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下腹突然剧烈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。入院前一天晚上饮酒饱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因右下腹突然疼痛而醒。疼痛呈持续性，刀割样。伴恶心，呕吐数次，呕吐物为食物，无咖啡色物和鲜血，腹痛很快扩展到全腹后略有缓解，但仍以右下腹为主。无排便，小便无异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后入住医院。既往无右下腹疼痛病史，但有反复发作的上腹反酸、嗳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痛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少量饮食后能缓解，无黑便及呕血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3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/7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面容，右侧卧位，心肺正常，腹部轻度膨隆，全腹肌紧张、拒按，以右下腹为明显，移动性浊音可疑，未闻及肠鸣音。直肠指诊：直肠窝饱满未扪及肿块，右侧触痛明显。血常规检查：白细胞计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8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腹部透视：全部肠曲明显充气，未见肠腔积液，膈下游离气体可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的诊断是什么？可能的原因是什么？如何确诊？目前主要处理措施有哪些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可能的医疗诊断是急性弥漫性腹膜炎。理由是：突发腹部剧痛、明显腹膜刺激征，既往胃病史、发病前饱餐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是胃十二指肠溃疡穿孔，也可能是急性坏疽性阑尾炎穿孔；需要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明确病变的部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处理措施：禁食、补液、胃肠减压、半卧位、抗生素应用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化脓性腹膜炎的概念、分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出急性化脓性腹膜炎的常见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举例说明继发性腹膜炎的常见病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化脓性腹膜炎的转归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对急性腹膜炎患者实施围术期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腹膜炎术后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常见的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空腔脏器穿孔或破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脏器缺血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炎症扩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污染腹腔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原发性腹膜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有利于病情局限的体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中凹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头低脚高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急性胃穿孔腹膜炎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突然出现寒战、高热、出汗等全身中毒症状，并伴有上腹痛、呃逆等，患者最可能发生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切口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肺部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全身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腹腔脓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停止胃肠减压的指征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加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引流液突然减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减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功能恢复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液引流过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腹膜炎的非手术疗法护理不妥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一般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减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使用吗啡等镇痛剂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抗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C   3.D    4.D   5.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化脓性腹膜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suppurative periton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由化脓性细菌（包括需氧和厌氧菌或两者混合）所引起的腹膜腔急性炎症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前突发性左上腹部剧烈疼痛，并迅速波及全腹，发病后曾呕吐两次，为胃内容物。既往有溃疡病史，近期有胃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体温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8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0/6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痛苦病容，平卧屈膝被动屈膝位，腹部平坦，腹式呼吸消失，腹肌紧张，全腹有明显压痛，反跳痛，移动性浊音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叩诊肝浊音界缩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性腹腔穿刺：抽得含食物残渣的浑浊液体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检查显示：白细胞计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①该患者的可能的发病原因有哪些？②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、脉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感染中毒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腹腔穿刺抽液术或腹腔灌洗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内脏器穿孔或破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脏器炎症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紊乱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菌药物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热量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腹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6-17T09:59:29Z</dcterms:modified>
  <cp:revision>85</cp:revision>
  <dc:subject/>
  <dc:title>内科护理学</dc:title>
</cp:coreProperties>
</file>